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42D-6DE2-48E4-94BE-F9C364BD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52B-2BA0-4737-8672-79081201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47B-C3AD-4846-8447-DB8BB28E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896-1F01-4E95-9C1A-40F6A329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64D4-175D-4DE1-97F9-CE74B54A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7016-3EEF-4A35-90D3-CF4E7838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183F-ED1E-4D5E-AF19-FCC1E485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1A28-1E6B-4D41-A89F-574F4125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EF10-C9DE-4DCD-9526-43E25F6B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F1C4-5804-4592-86EC-530BE93A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F73C-4D30-457D-B5DC-45964744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D38-549E-49FC-B87F-28B5B970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7E66-2869-4AA1-833E-857061AF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5BBD-CD8B-4701-AC68-EF2B154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778F-E54E-4639-8093-A6884AB9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B22E-7105-430C-8A4D-364B435D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20BD-0ACA-45EE-8AF7-2AC22952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6F4-4376-42BB-9BB1-145A1F51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5B2-B758-41E6-BF17-4354584D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BF3-DC11-44AD-BFAA-0A6E7D66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BE5-E979-4265-B94A-0AAD8C87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076-F49D-4B6A-AED2-550A08E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5EE-C87F-4B74-AF51-36833570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F04-D7A3-44D7-81BA-D54AD824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E1B0-D58C-4F29-8128-38628EA1E421}" type="slidenum">
              <a:rPr b="0" lang="zh-TW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4FD6-405B-4646-B19E-A78D84621076}" type="slidenum">
              <a:rPr b="0" lang="zh-TW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SC 5120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dvanced Topics in Database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41148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ew Materialization and View Maintenan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warehou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Group 8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61240" y="1987560"/>
            <a:ext cx="791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Benefits of materializing a view C given a set of views M already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aterialized is 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it can be interpreted as the reduce in cost of answer query when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C is materialized per unit space occupied by 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905120" y="2743200"/>
                <a:ext cx="54100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τ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−</m:t>
                    </m:r>
                    <m:r>
                      <m:t xml:space="preserve">τ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∪</m:t>
                            </m:r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511560" y="4191120"/>
            <a:ext cx="838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gain, we apply the greedy algorithm introduced in lecture by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choosing view that have the greatest benefits at each iteration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fter selecting the initial set of views, we can further optimize th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benefit more interchanging views inside and outside the selected set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which will give more benef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more realistic/refined cost model (2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60560" y="182880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Recall the worst case described in lect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2590920"/>
            <a:ext cx="381240" cy="38088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3276720"/>
            <a:ext cx="380880" cy="38088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3276720"/>
            <a:ext cx="381240" cy="38088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3276720"/>
            <a:ext cx="380880" cy="38088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4038480"/>
            <a:ext cx="38088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4038480"/>
            <a:ext cx="38088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4038480"/>
            <a:ext cx="381240" cy="38124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304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742840" y="2819520"/>
            <a:ext cx="1523880" cy="5331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48320" y="2819520"/>
            <a:ext cx="1676160" cy="5331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04760" y="3581280"/>
            <a:ext cx="53316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3581280"/>
            <a:ext cx="68580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580920" y="3581280"/>
            <a:ext cx="76212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581280"/>
            <a:ext cx="68580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486400" y="3581280"/>
            <a:ext cx="83808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3657600"/>
            <a:ext cx="533520" cy="3808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9760" y="2444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Verdana"/>
              </a:rPr>
              <a:t>20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22400" y="33526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36520" y="32767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Verdana"/>
              </a:rPr>
              <a:t>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23000" y="33526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32240" y="25909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24600" y="32828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b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32600" y="328284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c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10800" y="32828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50292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Greedy algorithm will choose a,b,c to materialize, but after running the greedy interchange algorithm, interchanging c and d will give a larger benefit, so views a,b,d will be chosen at las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2367000"/>
            <a:ext cx="3459240" cy="1649520"/>
          </a:xfrm>
          <a:custGeom>
            <a:avLst/>
            <a:gdLst/>
            <a:ahLst/>
            <a:rect l="l" t="t" r="r" b="b"/>
            <a:pathLst>
              <a:path w="1962" h="1039">
                <a:moveTo>
                  <a:pt x="1878" y="95"/>
                </a:moveTo>
                <a:cubicBezTo>
                  <a:pt x="1884" y="165"/>
                  <a:pt x="1883" y="272"/>
                  <a:pt x="1907" y="349"/>
                </a:cubicBezTo>
                <a:cubicBezTo>
                  <a:pt x="1918" y="472"/>
                  <a:pt x="1962" y="629"/>
                  <a:pt x="1893" y="738"/>
                </a:cubicBezTo>
                <a:cubicBezTo>
                  <a:pt x="1878" y="794"/>
                  <a:pt x="1830" y="897"/>
                  <a:pt x="1773" y="918"/>
                </a:cubicBezTo>
                <a:cubicBezTo>
                  <a:pt x="1734" y="956"/>
                  <a:pt x="1676" y="966"/>
                  <a:pt x="1623" y="978"/>
                </a:cubicBezTo>
                <a:cubicBezTo>
                  <a:pt x="1512" y="1002"/>
                  <a:pt x="1400" y="1006"/>
                  <a:pt x="1287" y="1015"/>
                </a:cubicBezTo>
                <a:cubicBezTo>
                  <a:pt x="1133" y="1039"/>
                  <a:pt x="1002" y="1026"/>
                  <a:pt x="838" y="1022"/>
                </a:cubicBezTo>
                <a:cubicBezTo>
                  <a:pt x="682" y="1014"/>
                  <a:pt x="529" y="996"/>
                  <a:pt x="374" y="978"/>
                </a:cubicBezTo>
                <a:cubicBezTo>
                  <a:pt x="288" y="949"/>
                  <a:pt x="208" y="914"/>
                  <a:pt x="120" y="895"/>
                </a:cubicBezTo>
                <a:cubicBezTo>
                  <a:pt x="78" y="867"/>
                  <a:pt x="40" y="815"/>
                  <a:pt x="22" y="768"/>
                </a:cubicBezTo>
                <a:cubicBezTo>
                  <a:pt x="14" y="746"/>
                  <a:pt x="0" y="701"/>
                  <a:pt x="0" y="701"/>
                </a:cubicBezTo>
                <a:cubicBezTo>
                  <a:pt x="2" y="671"/>
                  <a:pt x="4" y="573"/>
                  <a:pt x="15" y="529"/>
                </a:cubicBezTo>
                <a:cubicBezTo>
                  <a:pt x="33" y="458"/>
                  <a:pt x="115" y="382"/>
                  <a:pt x="179" y="349"/>
                </a:cubicBezTo>
                <a:cubicBezTo>
                  <a:pt x="221" y="294"/>
                  <a:pt x="180" y="340"/>
                  <a:pt x="239" y="297"/>
                </a:cubicBezTo>
                <a:cubicBezTo>
                  <a:pt x="278" y="268"/>
                  <a:pt x="308" y="237"/>
                  <a:pt x="352" y="215"/>
                </a:cubicBezTo>
                <a:cubicBezTo>
                  <a:pt x="396" y="193"/>
                  <a:pt x="447" y="183"/>
                  <a:pt x="494" y="170"/>
                </a:cubicBezTo>
                <a:cubicBezTo>
                  <a:pt x="563" y="150"/>
                  <a:pt x="624" y="127"/>
                  <a:pt x="696" y="117"/>
                </a:cubicBezTo>
                <a:cubicBezTo>
                  <a:pt x="801" y="87"/>
                  <a:pt x="693" y="114"/>
                  <a:pt x="853" y="95"/>
                </a:cubicBezTo>
                <a:cubicBezTo>
                  <a:pt x="895" y="90"/>
                  <a:pt x="938" y="72"/>
                  <a:pt x="980" y="65"/>
                </a:cubicBezTo>
                <a:cubicBezTo>
                  <a:pt x="1036" y="42"/>
                  <a:pt x="1083" y="34"/>
                  <a:pt x="1144" y="28"/>
                </a:cubicBezTo>
                <a:cubicBezTo>
                  <a:pt x="1224" y="0"/>
                  <a:pt x="1307" y="17"/>
                  <a:pt x="1391" y="20"/>
                </a:cubicBezTo>
                <a:cubicBezTo>
                  <a:pt x="1491" y="33"/>
                  <a:pt x="1590" y="50"/>
                  <a:pt x="1691" y="57"/>
                </a:cubicBezTo>
                <a:cubicBezTo>
                  <a:pt x="1747" y="69"/>
                  <a:pt x="1799" y="91"/>
                  <a:pt x="1855" y="102"/>
                </a:cubicBezTo>
                <a:cubicBezTo>
                  <a:pt x="1865" y="104"/>
                  <a:pt x="1875" y="113"/>
                  <a:pt x="1885" y="110"/>
                </a:cubicBezTo>
                <a:cubicBezTo>
                  <a:pt x="1890" y="108"/>
                  <a:pt x="1880" y="100"/>
                  <a:pt x="1878" y="95"/>
                </a:cubicBezTo>
                <a:close/>
              </a:path>
            </a:pathLst>
          </a:custGeom>
          <a:noFill/>
          <a:ln w="381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35000" y="2470320"/>
            <a:ext cx="5321520" cy="1412640"/>
          </a:xfrm>
          <a:custGeom>
            <a:avLst/>
            <a:gdLst/>
            <a:ahLst/>
            <a:rect l="l" t="t" r="r" b="b"/>
            <a:pathLst>
              <a:path w="3352" h="890">
                <a:moveTo>
                  <a:pt x="509" y="845"/>
                </a:moveTo>
                <a:cubicBezTo>
                  <a:pt x="390" y="888"/>
                  <a:pt x="273" y="849"/>
                  <a:pt x="165" y="808"/>
                </a:cubicBezTo>
                <a:cubicBezTo>
                  <a:pt x="134" y="796"/>
                  <a:pt x="100" y="789"/>
                  <a:pt x="68" y="778"/>
                </a:cubicBezTo>
                <a:cubicBezTo>
                  <a:pt x="53" y="773"/>
                  <a:pt x="23" y="763"/>
                  <a:pt x="23" y="763"/>
                </a:cubicBezTo>
                <a:cubicBezTo>
                  <a:pt x="5" y="737"/>
                  <a:pt x="0" y="736"/>
                  <a:pt x="0" y="696"/>
                </a:cubicBezTo>
                <a:cubicBezTo>
                  <a:pt x="0" y="589"/>
                  <a:pt x="14" y="528"/>
                  <a:pt x="120" y="494"/>
                </a:cubicBezTo>
                <a:cubicBezTo>
                  <a:pt x="149" y="474"/>
                  <a:pt x="178" y="468"/>
                  <a:pt x="210" y="456"/>
                </a:cubicBezTo>
                <a:cubicBezTo>
                  <a:pt x="252" y="440"/>
                  <a:pt x="289" y="409"/>
                  <a:pt x="329" y="389"/>
                </a:cubicBezTo>
                <a:cubicBezTo>
                  <a:pt x="382" y="363"/>
                  <a:pt x="350" y="383"/>
                  <a:pt x="397" y="366"/>
                </a:cubicBezTo>
                <a:cubicBezTo>
                  <a:pt x="440" y="350"/>
                  <a:pt x="418" y="352"/>
                  <a:pt x="464" y="329"/>
                </a:cubicBezTo>
                <a:cubicBezTo>
                  <a:pt x="489" y="317"/>
                  <a:pt x="515" y="314"/>
                  <a:pt x="539" y="299"/>
                </a:cubicBezTo>
                <a:cubicBezTo>
                  <a:pt x="603" y="261"/>
                  <a:pt x="562" y="276"/>
                  <a:pt x="606" y="262"/>
                </a:cubicBezTo>
                <a:cubicBezTo>
                  <a:pt x="633" y="244"/>
                  <a:pt x="661" y="225"/>
                  <a:pt x="689" y="209"/>
                </a:cubicBezTo>
                <a:cubicBezTo>
                  <a:pt x="696" y="205"/>
                  <a:pt x="704" y="205"/>
                  <a:pt x="711" y="202"/>
                </a:cubicBezTo>
                <a:cubicBezTo>
                  <a:pt x="721" y="198"/>
                  <a:pt x="731" y="193"/>
                  <a:pt x="741" y="187"/>
                </a:cubicBezTo>
                <a:cubicBezTo>
                  <a:pt x="804" y="149"/>
                  <a:pt x="763" y="162"/>
                  <a:pt x="816" y="150"/>
                </a:cubicBezTo>
                <a:cubicBezTo>
                  <a:pt x="857" y="122"/>
                  <a:pt x="903" y="116"/>
                  <a:pt x="950" y="105"/>
                </a:cubicBezTo>
                <a:cubicBezTo>
                  <a:pt x="1089" y="74"/>
                  <a:pt x="1226" y="62"/>
                  <a:pt x="1369" y="52"/>
                </a:cubicBezTo>
                <a:cubicBezTo>
                  <a:pt x="1415" y="41"/>
                  <a:pt x="1450" y="11"/>
                  <a:pt x="1496" y="0"/>
                </a:cubicBezTo>
                <a:cubicBezTo>
                  <a:pt x="1569" y="6"/>
                  <a:pt x="1635" y="15"/>
                  <a:pt x="1706" y="30"/>
                </a:cubicBezTo>
                <a:cubicBezTo>
                  <a:pt x="1804" y="15"/>
                  <a:pt x="1889" y="35"/>
                  <a:pt x="1983" y="52"/>
                </a:cubicBezTo>
                <a:cubicBezTo>
                  <a:pt x="2077" y="90"/>
                  <a:pt x="2176" y="119"/>
                  <a:pt x="2274" y="142"/>
                </a:cubicBezTo>
                <a:cubicBezTo>
                  <a:pt x="2306" y="163"/>
                  <a:pt x="2334" y="172"/>
                  <a:pt x="2372" y="179"/>
                </a:cubicBezTo>
                <a:cubicBezTo>
                  <a:pt x="2440" y="213"/>
                  <a:pt x="2511" y="208"/>
                  <a:pt x="2581" y="232"/>
                </a:cubicBezTo>
                <a:cubicBezTo>
                  <a:pt x="2643" y="253"/>
                  <a:pt x="2707" y="270"/>
                  <a:pt x="2768" y="292"/>
                </a:cubicBezTo>
                <a:cubicBezTo>
                  <a:pt x="2816" y="309"/>
                  <a:pt x="2856" y="336"/>
                  <a:pt x="2903" y="352"/>
                </a:cubicBezTo>
                <a:cubicBezTo>
                  <a:pt x="2947" y="384"/>
                  <a:pt x="3051" y="423"/>
                  <a:pt x="3105" y="434"/>
                </a:cubicBezTo>
                <a:cubicBezTo>
                  <a:pt x="3207" y="485"/>
                  <a:pt x="3312" y="536"/>
                  <a:pt x="3352" y="651"/>
                </a:cubicBezTo>
                <a:cubicBezTo>
                  <a:pt x="3348" y="688"/>
                  <a:pt x="3330" y="792"/>
                  <a:pt x="3299" y="823"/>
                </a:cubicBezTo>
                <a:cubicBezTo>
                  <a:pt x="3258" y="864"/>
                  <a:pt x="3205" y="880"/>
                  <a:pt x="3150" y="890"/>
                </a:cubicBezTo>
                <a:cubicBezTo>
                  <a:pt x="3127" y="888"/>
                  <a:pt x="3104" y="888"/>
                  <a:pt x="3082" y="883"/>
                </a:cubicBezTo>
                <a:cubicBezTo>
                  <a:pt x="3051" y="876"/>
                  <a:pt x="3022" y="847"/>
                  <a:pt x="2993" y="838"/>
                </a:cubicBezTo>
                <a:cubicBezTo>
                  <a:pt x="2976" y="833"/>
                  <a:pt x="2958" y="833"/>
                  <a:pt x="2940" y="830"/>
                </a:cubicBezTo>
                <a:cubicBezTo>
                  <a:pt x="2933" y="828"/>
                  <a:pt x="2926" y="825"/>
                  <a:pt x="2918" y="823"/>
                </a:cubicBezTo>
                <a:cubicBezTo>
                  <a:pt x="2903" y="820"/>
                  <a:pt x="2888" y="819"/>
                  <a:pt x="2873" y="815"/>
                </a:cubicBezTo>
                <a:cubicBezTo>
                  <a:pt x="2822" y="799"/>
                  <a:pt x="2773" y="773"/>
                  <a:pt x="2723" y="755"/>
                </a:cubicBezTo>
                <a:cubicBezTo>
                  <a:pt x="2698" y="730"/>
                  <a:pt x="2673" y="706"/>
                  <a:pt x="2648" y="681"/>
                </a:cubicBezTo>
                <a:cubicBezTo>
                  <a:pt x="2640" y="673"/>
                  <a:pt x="2626" y="658"/>
                  <a:pt x="2626" y="658"/>
                </a:cubicBezTo>
                <a:cubicBezTo>
                  <a:pt x="2613" y="617"/>
                  <a:pt x="2549" y="528"/>
                  <a:pt x="2521" y="509"/>
                </a:cubicBezTo>
                <a:cubicBezTo>
                  <a:pt x="2506" y="499"/>
                  <a:pt x="2487" y="493"/>
                  <a:pt x="2476" y="479"/>
                </a:cubicBezTo>
                <a:cubicBezTo>
                  <a:pt x="2407" y="392"/>
                  <a:pt x="2336" y="363"/>
                  <a:pt x="2230" y="352"/>
                </a:cubicBezTo>
                <a:cubicBezTo>
                  <a:pt x="2116" y="322"/>
                  <a:pt x="1987" y="317"/>
                  <a:pt x="1870" y="307"/>
                </a:cubicBezTo>
                <a:cubicBezTo>
                  <a:pt x="1782" y="316"/>
                  <a:pt x="1702" y="339"/>
                  <a:pt x="1616" y="352"/>
                </a:cubicBezTo>
                <a:cubicBezTo>
                  <a:pt x="1578" y="370"/>
                  <a:pt x="1545" y="373"/>
                  <a:pt x="1504" y="381"/>
                </a:cubicBezTo>
                <a:cubicBezTo>
                  <a:pt x="1449" y="392"/>
                  <a:pt x="1393" y="410"/>
                  <a:pt x="1339" y="426"/>
                </a:cubicBezTo>
                <a:cubicBezTo>
                  <a:pt x="1261" y="486"/>
                  <a:pt x="1191" y="468"/>
                  <a:pt x="1115" y="509"/>
                </a:cubicBezTo>
                <a:cubicBezTo>
                  <a:pt x="1050" y="544"/>
                  <a:pt x="992" y="606"/>
                  <a:pt x="920" y="628"/>
                </a:cubicBezTo>
                <a:cubicBezTo>
                  <a:pt x="865" y="662"/>
                  <a:pt x="802" y="689"/>
                  <a:pt x="741" y="711"/>
                </a:cubicBezTo>
                <a:cubicBezTo>
                  <a:pt x="681" y="755"/>
                  <a:pt x="619" y="756"/>
                  <a:pt x="554" y="785"/>
                </a:cubicBezTo>
                <a:cubicBezTo>
                  <a:pt x="519" y="801"/>
                  <a:pt x="492" y="825"/>
                  <a:pt x="457" y="838"/>
                </a:cubicBezTo>
                <a:cubicBezTo>
                  <a:pt x="452" y="845"/>
                  <a:pt x="451" y="859"/>
                  <a:pt x="442" y="860"/>
                </a:cubicBezTo>
                <a:cubicBezTo>
                  <a:pt x="431" y="862"/>
                  <a:pt x="412" y="845"/>
                  <a:pt x="412" y="845"/>
                </a:cubicBezTo>
              </a:path>
            </a:pathLst>
          </a:custGeom>
          <a:noFill/>
          <a:ln w="38160">
            <a:solidFill>
              <a:srgbClr val="00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3352680"/>
            <a:ext cx="990720" cy="152640"/>
          </a:xfrm>
          <a:prstGeom prst="leftRightArrow">
            <a:avLst>
              <a:gd name="adj1" fmla="val 50000"/>
              <a:gd name="adj2" fmla="val 12921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more realistic/refined cost model (3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17680" y="2057400"/>
            <a:ext cx="8220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s new transaction are being added into the warehouse regularly,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data-warehouse has to be bring down (not in service) to updat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new data especially the materialized view. The word </a:t>
            </a: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window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eans the time interval to carryout update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ypical model divide this process into two phase: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propagate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– a delta table is computed showing the changes to th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       materialized view.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install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– the delta table is combined with the materialized view, and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 the change is committed (not recoverable)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following is an simplified example about sales of softwar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o show how the update time can be reduced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5335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hrinking warehouse update windo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58440" y="1981080"/>
            <a:ext cx="761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uppose we have a materialized view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defined over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and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65560" y="2498760"/>
            <a:ext cx="41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13040" y="3352680"/>
            <a:ext cx="41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3352680"/>
            <a:ext cx="46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218960" y="2817720"/>
            <a:ext cx="306360" cy="5335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819520"/>
            <a:ext cx="228600" cy="53316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666880" y="2895480"/>
            <a:ext cx="2523960" cy="1055880"/>
            <a:chOff x="2666880" y="2895480"/>
            <a:chExt cx="2523960" cy="1055880"/>
          </a:xfrm>
        </p:grpSpPr>
        <p:grpSp>
          <p:nvGrpSpPr>
            <p:cNvPr id="306" name=""/>
            <p:cNvGrpSpPr/>
            <p:nvPr/>
          </p:nvGrpSpPr>
          <p:grpSpPr>
            <a:xfrm>
              <a:off x="2671560" y="2897280"/>
              <a:ext cx="2514600" cy="1051560"/>
              <a:chOff x="2671560" y="2897280"/>
              <a:chExt cx="2514600" cy="105156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2671560" y="2897280"/>
                <a:ext cx="1428840" cy="262800"/>
                <a:chOff x="2671560" y="2897280"/>
                <a:chExt cx="1428840" cy="2628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739960" y="2897280"/>
                  <a:ext cx="1292040" cy="26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Product Name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71560" y="2897280"/>
                  <a:ext cx="1428840" cy="26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100400" y="2897280"/>
                <a:ext cx="1085760" cy="262800"/>
                <a:chOff x="4100400" y="2897280"/>
                <a:chExt cx="1085760" cy="2628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168440" y="2897280"/>
                  <a:ext cx="949320" cy="26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Total Sale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100400" y="2897280"/>
                  <a:ext cx="1085760" cy="26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2671560" y="3160080"/>
                <a:ext cx="1428840" cy="262800"/>
                <a:chOff x="2671560" y="3160080"/>
                <a:chExt cx="1428840" cy="262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739960" y="3160080"/>
                  <a:ext cx="1292040" cy="26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Office 2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671560" y="3160080"/>
                  <a:ext cx="1428840" cy="26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100400" y="3160080"/>
                <a:ext cx="1085760" cy="262800"/>
                <a:chOff x="4100400" y="3160080"/>
                <a:chExt cx="1085760" cy="2628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168440" y="3160080"/>
                  <a:ext cx="949320" cy="26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3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100400" y="3160080"/>
                  <a:ext cx="1085760" cy="26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71560" y="3423240"/>
                <a:ext cx="1428840" cy="262800"/>
                <a:chOff x="2671560" y="3423240"/>
                <a:chExt cx="1428840" cy="2628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739960" y="3423240"/>
                  <a:ext cx="1292040" cy="26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Windows 2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71560" y="3423240"/>
                  <a:ext cx="1428840" cy="26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100400" y="3423240"/>
                <a:ext cx="1085760" cy="262800"/>
                <a:chOff x="4100400" y="3423240"/>
                <a:chExt cx="1085760" cy="2628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168440" y="3423240"/>
                  <a:ext cx="949320" cy="26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7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100400" y="3423240"/>
                  <a:ext cx="1085760" cy="26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671560" y="3686040"/>
                <a:ext cx="1428840" cy="262800"/>
                <a:chOff x="2671560" y="3686040"/>
                <a:chExt cx="1428840" cy="2628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739960" y="3686040"/>
                  <a:ext cx="1292040" cy="26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RedHat Linux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671560" y="3686040"/>
                  <a:ext cx="1428840" cy="26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100400" y="3686040"/>
                <a:ext cx="1085760" cy="262800"/>
                <a:chOff x="4100400" y="3686040"/>
                <a:chExt cx="1085760" cy="2628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168440" y="3686040"/>
                  <a:ext cx="949320" cy="26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5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100400" y="3686040"/>
                  <a:ext cx="1085760" cy="26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1" name=""/>
            <p:cNvSpPr/>
            <p:nvPr/>
          </p:nvSpPr>
          <p:spPr>
            <a:xfrm>
              <a:off x="2666880" y="2895480"/>
              <a:ext cx="2523960" cy="1055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191120" y="4572000"/>
            <a:ext cx="3024000" cy="1619280"/>
            <a:chOff x="4191120" y="4572000"/>
            <a:chExt cx="3024000" cy="1619280"/>
          </a:xfrm>
        </p:grpSpPr>
        <p:grpSp>
          <p:nvGrpSpPr>
            <p:cNvPr id="333" name=""/>
            <p:cNvGrpSpPr/>
            <p:nvPr/>
          </p:nvGrpSpPr>
          <p:grpSpPr>
            <a:xfrm>
              <a:off x="4195800" y="4573800"/>
              <a:ext cx="3014640" cy="1614960"/>
              <a:chOff x="4195800" y="4573800"/>
              <a:chExt cx="3014640" cy="161496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4195800" y="4573800"/>
                <a:ext cx="1004760" cy="268920"/>
                <a:chOff x="4195800" y="4573800"/>
                <a:chExt cx="1004760" cy="268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64200" y="4573800"/>
                  <a:ext cx="868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Product ID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95800" y="4573800"/>
                  <a:ext cx="100476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5200560" y="4573800"/>
                <a:ext cx="708120" cy="268920"/>
                <a:chOff x="5200560" y="4573800"/>
                <a:chExt cx="708120" cy="2689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268960" y="4573800"/>
                  <a:ext cx="571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Store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200560" y="4573800"/>
                  <a:ext cx="70812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5908680" y="4573800"/>
                <a:ext cx="593640" cy="268920"/>
                <a:chOff x="5908680" y="4573800"/>
                <a:chExt cx="593640" cy="2689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977080" y="4573800"/>
                  <a:ext cx="45720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Day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908680" y="4573800"/>
                  <a:ext cx="59364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502320" y="4573800"/>
                <a:ext cx="708120" cy="268920"/>
                <a:chOff x="6502320" y="4573800"/>
                <a:chExt cx="708120" cy="2689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570720" y="4573800"/>
                  <a:ext cx="571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Sale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02320" y="4573800"/>
                  <a:ext cx="70812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195800" y="4842720"/>
                <a:ext cx="1004760" cy="268920"/>
                <a:chOff x="4195800" y="4842720"/>
                <a:chExt cx="1004760" cy="2689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264200" y="4842720"/>
                  <a:ext cx="868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195800" y="4842720"/>
                  <a:ext cx="100476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200560" y="4842720"/>
                <a:ext cx="708120" cy="268920"/>
                <a:chOff x="5200560" y="4842720"/>
                <a:chExt cx="708120" cy="2689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268960" y="4842720"/>
                  <a:ext cx="571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200560" y="4842720"/>
                  <a:ext cx="70812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08680" y="4842720"/>
                <a:ext cx="593640" cy="268920"/>
                <a:chOff x="5908680" y="4842720"/>
                <a:chExt cx="593640" cy="268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977080" y="4842720"/>
                  <a:ext cx="45720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08680" y="4842720"/>
                  <a:ext cx="59364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502320" y="4842720"/>
                <a:ext cx="708120" cy="268920"/>
                <a:chOff x="6502320" y="4842720"/>
                <a:chExt cx="708120" cy="2689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570720" y="4842720"/>
                  <a:ext cx="571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02320" y="4842720"/>
                  <a:ext cx="70812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195800" y="5112000"/>
                <a:ext cx="1004760" cy="268920"/>
                <a:chOff x="4195800" y="5112000"/>
                <a:chExt cx="1004760" cy="2689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264200" y="5112000"/>
                  <a:ext cx="868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195800" y="5112000"/>
                  <a:ext cx="100476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5200560" y="5112000"/>
                <a:ext cx="708120" cy="268920"/>
                <a:chOff x="5200560" y="5112000"/>
                <a:chExt cx="708120" cy="2689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268960" y="5112000"/>
                  <a:ext cx="571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B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200560" y="5112000"/>
                  <a:ext cx="70812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5908680" y="5112000"/>
                <a:ext cx="593640" cy="268920"/>
                <a:chOff x="5908680" y="5112000"/>
                <a:chExt cx="593640" cy="268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977080" y="5112000"/>
                  <a:ext cx="45720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908680" y="5112000"/>
                  <a:ext cx="59364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6502320" y="5112000"/>
                <a:ext cx="708120" cy="268920"/>
                <a:chOff x="6502320" y="5112000"/>
                <a:chExt cx="708120" cy="2689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6570720" y="5112000"/>
                  <a:ext cx="571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502320" y="5112000"/>
                  <a:ext cx="70812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195800" y="5381280"/>
                <a:ext cx="1004760" cy="268920"/>
                <a:chOff x="4195800" y="5381280"/>
                <a:chExt cx="1004760" cy="2689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264200" y="5381280"/>
                  <a:ext cx="868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195800" y="5381280"/>
                  <a:ext cx="100476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00560" y="5381280"/>
                <a:ext cx="708120" cy="268920"/>
                <a:chOff x="5200560" y="5381280"/>
                <a:chExt cx="708120" cy="268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268960" y="5381280"/>
                  <a:ext cx="571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200560" y="5381280"/>
                  <a:ext cx="70812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908680" y="5381280"/>
                <a:ext cx="593640" cy="268920"/>
                <a:chOff x="5908680" y="5381280"/>
                <a:chExt cx="593640" cy="268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77080" y="5381280"/>
                  <a:ext cx="45720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908680" y="5381280"/>
                  <a:ext cx="59364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502320" y="5381280"/>
                <a:ext cx="708120" cy="268920"/>
                <a:chOff x="6502320" y="5381280"/>
                <a:chExt cx="708120" cy="2689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570720" y="5381280"/>
                  <a:ext cx="571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3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502320" y="5381280"/>
                  <a:ext cx="70812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195800" y="5650560"/>
                <a:ext cx="1004760" cy="269280"/>
                <a:chOff x="4195800" y="5650560"/>
                <a:chExt cx="1004760" cy="2692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264200" y="5650560"/>
                  <a:ext cx="868320" cy="2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195800" y="5650560"/>
                  <a:ext cx="1004760" cy="26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200560" y="5650560"/>
                <a:ext cx="708120" cy="269280"/>
                <a:chOff x="5200560" y="5650560"/>
                <a:chExt cx="708120" cy="2692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268960" y="5650560"/>
                  <a:ext cx="571320" cy="2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200560" y="5650560"/>
                  <a:ext cx="708120" cy="26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908680" y="5650560"/>
                <a:ext cx="593640" cy="269280"/>
                <a:chOff x="5908680" y="5650560"/>
                <a:chExt cx="593640" cy="2692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977080" y="5650560"/>
                  <a:ext cx="457200" cy="2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908680" y="5650560"/>
                  <a:ext cx="593640" cy="26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502320" y="5650560"/>
                <a:ext cx="708120" cy="269280"/>
                <a:chOff x="6502320" y="5650560"/>
                <a:chExt cx="708120" cy="2692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570720" y="5650560"/>
                  <a:ext cx="571320" cy="2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4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02320" y="5650560"/>
                  <a:ext cx="708120" cy="26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4195800" y="5919840"/>
                <a:ext cx="1004760" cy="268920"/>
                <a:chOff x="4195800" y="5919840"/>
                <a:chExt cx="1004760" cy="2689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264200" y="5919840"/>
                  <a:ext cx="868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195800" y="5919840"/>
                  <a:ext cx="100476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200560" y="5919840"/>
                <a:ext cx="708120" cy="268920"/>
                <a:chOff x="5200560" y="5919840"/>
                <a:chExt cx="708120" cy="268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268960" y="5919840"/>
                  <a:ext cx="571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200560" y="5919840"/>
                  <a:ext cx="70812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908680" y="5919840"/>
                <a:ext cx="593640" cy="268920"/>
                <a:chOff x="5908680" y="5919840"/>
                <a:chExt cx="593640" cy="2689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977080" y="5919840"/>
                  <a:ext cx="45720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908680" y="5919840"/>
                  <a:ext cx="59364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502320" y="5919840"/>
                <a:ext cx="708120" cy="268920"/>
                <a:chOff x="6502320" y="5919840"/>
                <a:chExt cx="708120" cy="2689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570720" y="5919840"/>
                  <a:ext cx="571320" cy="26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5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02320" y="5919840"/>
                  <a:ext cx="708120" cy="26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6" name=""/>
            <p:cNvSpPr/>
            <p:nvPr/>
          </p:nvSpPr>
          <p:spPr>
            <a:xfrm>
              <a:off x="4191120" y="4572000"/>
              <a:ext cx="3024000" cy="1619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143000" y="4952880"/>
            <a:ext cx="2541240" cy="1254240"/>
            <a:chOff x="1143000" y="4952880"/>
            <a:chExt cx="2541240" cy="1254240"/>
          </a:xfrm>
        </p:grpSpPr>
        <p:grpSp>
          <p:nvGrpSpPr>
            <p:cNvPr id="408" name=""/>
            <p:cNvGrpSpPr/>
            <p:nvPr/>
          </p:nvGrpSpPr>
          <p:grpSpPr>
            <a:xfrm>
              <a:off x="1148040" y="4954680"/>
              <a:ext cx="2530080" cy="1250640"/>
              <a:chOff x="1148040" y="4954680"/>
              <a:chExt cx="2530080" cy="125064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148040" y="4954680"/>
                <a:ext cx="1265040" cy="330840"/>
                <a:chOff x="1148040" y="4954680"/>
                <a:chExt cx="1265040" cy="3308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222200" y="4954680"/>
                  <a:ext cx="111672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Product ID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148040" y="4954680"/>
                  <a:ext cx="1265040" cy="3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2413440" y="4954680"/>
                <a:ext cx="1264680" cy="330840"/>
                <a:chOff x="2413440" y="4954680"/>
                <a:chExt cx="1264680" cy="3308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487240" y="4954680"/>
                  <a:ext cx="111708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Product Name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413440" y="4954680"/>
                  <a:ext cx="1264680" cy="3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148040" y="5285520"/>
                <a:ext cx="1265040" cy="257400"/>
                <a:chOff x="1148040" y="5285520"/>
                <a:chExt cx="1265040" cy="2574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222200" y="5285520"/>
                  <a:ext cx="1116720" cy="25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148040" y="5285520"/>
                  <a:ext cx="1265040" cy="25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2413440" y="5285520"/>
                <a:ext cx="1264680" cy="257400"/>
                <a:chOff x="2413440" y="5285520"/>
                <a:chExt cx="1264680" cy="2574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487240" y="5285520"/>
                  <a:ext cx="1117080" cy="25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Office2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413440" y="5285520"/>
                  <a:ext cx="1264680" cy="25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148040" y="5543280"/>
                <a:ext cx="1265040" cy="330840"/>
                <a:chOff x="1148040" y="5543280"/>
                <a:chExt cx="1265040" cy="3308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222200" y="5543280"/>
                  <a:ext cx="111672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148040" y="5543280"/>
                  <a:ext cx="1265040" cy="3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2413440" y="5543280"/>
                <a:ext cx="1264680" cy="330840"/>
                <a:chOff x="2413440" y="5543280"/>
                <a:chExt cx="1264680" cy="3308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487240" y="5543280"/>
                  <a:ext cx="111708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Windows2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413440" y="5543280"/>
                  <a:ext cx="1264680" cy="3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148040" y="5874480"/>
                <a:ext cx="1265040" cy="330840"/>
                <a:chOff x="1148040" y="5874480"/>
                <a:chExt cx="1265040" cy="3308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222200" y="5874480"/>
                  <a:ext cx="111672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148040" y="5874480"/>
                  <a:ext cx="1265040" cy="3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413440" y="5874480"/>
                <a:ext cx="1264680" cy="330840"/>
                <a:chOff x="2413440" y="5874480"/>
                <a:chExt cx="1264680" cy="3308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487240" y="5874480"/>
                  <a:ext cx="111708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RedHat Linux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413440" y="5874480"/>
                  <a:ext cx="1264680" cy="3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"/>
            <p:cNvSpPr/>
            <p:nvPr/>
          </p:nvSpPr>
          <p:spPr>
            <a:xfrm>
              <a:off x="1143000" y="4952880"/>
              <a:ext cx="2541240" cy="1254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H="1">
            <a:off x="2590560" y="3962520"/>
            <a:ext cx="533160" cy="99036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0" y="3962520"/>
            <a:ext cx="304920" cy="6094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18640" y="2946240"/>
            <a:ext cx="295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1600" spc="-1" strike="noStrike" baseline="-25000">
                <a:solidFill>
                  <a:srgbClr val="ffffcc"/>
                </a:solidFill>
                <a:latin typeface="Verdana"/>
              </a:rPr>
              <a:t>3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-total sales of each produc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24720" y="6299280"/>
            <a:ext cx="1823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16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- product detai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67080" y="6248520"/>
            <a:ext cx="358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16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-daily sales of each produc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5335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 backgroun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533520" y="2438280"/>
            <a:ext cx="3276000" cy="1257480"/>
            <a:chOff x="533520" y="2438280"/>
            <a:chExt cx="3276000" cy="1257480"/>
          </a:xfrm>
        </p:grpSpPr>
        <p:grpSp>
          <p:nvGrpSpPr>
            <p:cNvPr id="441" name=""/>
            <p:cNvGrpSpPr/>
            <p:nvPr/>
          </p:nvGrpSpPr>
          <p:grpSpPr>
            <a:xfrm>
              <a:off x="538560" y="2439720"/>
              <a:ext cx="3264840" cy="1253880"/>
              <a:chOff x="538560" y="2439720"/>
              <a:chExt cx="3264840" cy="125388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538560" y="2439720"/>
                <a:ext cx="1130760" cy="304920"/>
                <a:chOff x="538560" y="2439720"/>
                <a:chExt cx="1130760" cy="3049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15240" y="2439720"/>
                  <a:ext cx="9774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Product ID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38560" y="2439720"/>
                  <a:ext cx="113076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1669680" y="2439720"/>
                <a:ext cx="669960" cy="304920"/>
                <a:chOff x="1669680" y="2439720"/>
                <a:chExt cx="669960" cy="3049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746360" y="2439720"/>
                  <a:ext cx="5162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Store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669680" y="2439720"/>
                  <a:ext cx="66996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2340000" y="2439720"/>
                <a:ext cx="666360" cy="304920"/>
                <a:chOff x="2340000" y="2439720"/>
                <a:chExt cx="666360" cy="3049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416680" y="2439720"/>
                  <a:ext cx="5126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Day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0000" y="2439720"/>
                  <a:ext cx="66636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3006720" y="2439720"/>
                <a:ext cx="796680" cy="304920"/>
                <a:chOff x="3006720" y="2439720"/>
                <a:chExt cx="796680" cy="304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3083040" y="2439720"/>
                  <a:ext cx="6433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Sale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006720" y="2439720"/>
                  <a:ext cx="79668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38560" y="2744640"/>
                <a:ext cx="1130760" cy="237240"/>
                <a:chOff x="538560" y="2744640"/>
                <a:chExt cx="1130760" cy="2372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615240" y="2744640"/>
                  <a:ext cx="9774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38560" y="2744640"/>
                  <a:ext cx="11307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1669680" y="2744640"/>
                <a:ext cx="669960" cy="237240"/>
                <a:chOff x="1669680" y="2744640"/>
                <a:chExt cx="669960" cy="2372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746360" y="2744640"/>
                  <a:ext cx="516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669680" y="2744640"/>
                  <a:ext cx="6699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340000" y="2744640"/>
                <a:ext cx="666360" cy="237240"/>
                <a:chOff x="2340000" y="2744640"/>
                <a:chExt cx="666360" cy="2372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416680" y="2744640"/>
                  <a:ext cx="512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40000" y="2744640"/>
                  <a:ext cx="6663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006720" y="2744640"/>
                <a:ext cx="796680" cy="237240"/>
                <a:chOff x="3006720" y="2744640"/>
                <a:chExt cx="796680" cy="23724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083040" y="2744640"/>
                  <a:ext cx="6433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006720" y="2744640"/>
                  <a:ext cx="79668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38560" y="2981880"/>
                <a:ext cx="1130760" cy="237240"/>
                <a:chOff x="538560" y="2981880"/>
                <a:chExt cx="1130760" cy="237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615240" y="2981880"/>
                  <a:ext cx="9774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38560" y="2981880"/>
                  <a:ext cx="11307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1669680" y="2981880"/>
                <a:ext cx="669960" cy="237240"/>
                <a:chOff x="1669680" y="2981880"/>
                <a:chExt cx="669960" cy="237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1746360" y="2981880"/>
                  <a:ext cx="516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B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669680" y="2981880"/>
                  <a:ext cx="6699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2340000" y="2981880"/>
                <a:ext cx="666360" cy="237240"/>
                <a:chOff x="2340000" y="2981880"/>
                <a:chExt cx="666360" cy="2372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2416680" y="2981880"/>
                  <a:ext cx="512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340000" y="2981880"/>
                  <a:ext cx="6663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3006720" y="2981880"/>
                <a:ext cx="796680" cy="237240"/>
                <a:chOff x="3006720" y="2981880"/>
                <a:chExt cx="796680" cy="2372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3083040" y="2981880"/>
                  <a:ext cx="6433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006720" y="2981880"/>
                  <a:ext cx="79668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538560" y="3219120"/>
                <a:ext cx="1130760" cy="237240"/>
                <a:chOff x="538560" y="3219120"/>
                <a:chExt cx="1130760" cy="2372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15240" y="3219120"/>
                  <a:ext cx="9774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38560" y="3219120"/>
                  <a:ext cx="11307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1669680" y="3219120"/>
                <a:ext cx="669960" cy="237240"/>
                <a:chOff x="1669680" y="3219120"/>
                <a:chExt cx="669960" cy="23724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746360" y="3219120"/>
                  <a:ext cx="516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669680" y="3219120"/>
                  <a:ext cx="6699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2340000" y="3219120"/>
                <a:ext cx="666360" cy="237240"/>
                <a:chOff x="2340000" y="3219120"/>
                <a:chExt cx="666360" cy="2372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2416680" y="3219120"/>
                  <a:ext cx="512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340000" y="3219120"/>
                  <a:ext cx="6663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006720" y="3219120"/>
                <a:ext cx="796680" cy="237240"/>
                <a:chOff x="3006720" y="3219120"/>
                <a:chExt cx="796680" cy="2372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083040" y="3219120"/>
                  <a:ext cx="6433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006720" y="3219120"/>
                  <a:ext cx="79668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538560" y="3456360"/>
                <a:ext cx="1130760" cy="237240"/>
                <a:chOff x="538560" y="3456360"/>
                <a:chExt cx="1130760" cy="2372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15240" y="3456360"/>
                  <a:ext cx="97740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38560" y="3456360"/>
                  <a:ext cx="11307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1669680" y="3456360"/>
                <a:ext cx="669960" cy="237240"/>
                <a:chOff x="1669680" y="3456360"/>
                <a:chExt cx="669960" cy="2372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1746360" y="3456360"/>
                  <a:ext cx="5162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669680" y="3456360"/>
                  <a:ext cx="6699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2340000" y="3456360"/>
                <a:ext cx="666360" cy="237240"/>
                <a:chOff x="2340000" y="3456360"/>
                <a:chExt cx="666360" cy="237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416680" y="3456360"/>
                  <a:ext cx="51264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340000" y="3456360"/>
                  <a:ext cx="66636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3006720" y="3456360"/>
                <a:ext cx="796680" cy="237240"/>
                <a:chOff x="3006720" y="3456360"/>
                <a:chExt cx="796680" cy="23724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3083040" y="3456360"/>
                  <a:ext cx="64332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06720" y="3456360"/>
                  <a:ext cx="796680" cy="23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2" name=""/>
            <p:cNvSpPr/>
            <p:nvPr/>
          </p:nvSpPr>
          <p:spPr>
            <a:xfrm>
              <a:off x="533520" y="2438280"/>
              <a:ext cx="3276000" cy="1257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240" y="3751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114800" y="2438280"/>
            <a:ext cx="2590560" cy="762120"/>
            <a:chOff x="4114800" y="2438280"/>
            <a:chExt cx="2590560" cy="762120"/>
          </a:xfrm>
        </p:grpSpPr>
        <p:grpSp>
          <p:nvGrpSpPr>
            <p:cNvPr id="505" name=""/>
            <p:cNvGrpSpPr/>
            <p:nvPr/>
          </p:nvGrpSpPr>
          <p:grpSpPr>
            <a:xfrm>
              <a:off x="4120200" y="2439720"/>
              <a:ext cx="2578680" cy="758880"/>
              <a:chOff x="4120200" y="2439720"/>
              <a:chExt cx="2578680" cy="7588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4120200" y="2439720"/>
                <a:ext cx="1193760" cy="296640"/>
                <a:chOff x="4120200" y="2439720"/>
                <a:chExt cx="1193760" cy="2966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201200" y="2439720"/>
                  <a:ext cx="10317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Product ID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120200" y="2439720"/>
                  <a:ext cx="1193760" cy="29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5314320" y="2439720"/>
                <a:ext cx="1384560" cy="296640"/>
                <a:chOff x="5314320" y="2439720"/>
                <a:chExt cx="1384560" cy="2966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5395320" y="2439720"/>
                  <a:ext cx="122220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Product Name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314320" y="2439720"/>
                  <a:ext cx="1384560" cy="29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120200" y="2736360"/>
                <a:ext cx="1193760" cy="230760"/>
                <a:chOff x="4120200" y="2736360"/>
                <a:chExt cx="1193760" cy="2307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201200" y="2736360"/>
                  <a:ext cx="103176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120200" y="2736360"/>
                  <a:ext cx="1193760" cy="23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5314320" y="2736360"/>
                <a:ext cx="1384560" cy="230760"/>
                <a:chOff x="5314320" y="2736360"/>
                <a:chExt cx="1384560" cy="230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395320" y="2736360"/>
                  <a:ext cx="12222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Oracle 8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314320" y="2736360"/>
                  <a:ext cx="1384560" cy="23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4120200" y="2967480"/>
                <a:ext cx="1193760" cy="231120"/>
                <a:chOff x="4120200" y="2967480"/>
                <a:chExt cx="1193760" cy="2311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4201200" y="2967480"/>
                  <a:ext cx="10317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120200" y="2967480"/>
                  <a:ext cx="1193760" cy="23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314320" y="2967480"/>
                <a:ext cx="1384560" cy="231120"/>
                <a:chOff x="5314320" y="2967480"/>
                <a:chExt cx="1384560" cy="2311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395320" y="2967480"/>
                  <a:ext cx="12222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SPSS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314320" y="2967480"/>
                  <a:ext cx="1384560" cy="23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" name=""/>
            <p:cNvSpPr/>
            <p:nvPr/>
          </p:nvSpPr>
          <p:spPr>
            <a:xfrm>
              <a:off x="4114800" y="2438280"/>
              <a:ext cx="2590560" cy="762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55200" y="1962000"/>
            <a:ext cx="2365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cc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16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-updated daily sal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80680" y="1981080"/>
            <a:ext cx="173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cc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16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-new produc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3640" y="3817800"/>
            <a:ext cx="824544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In order to compute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, there are two ways to d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1-Join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and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, install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. Join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and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ffffcc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, install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2-Join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and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, install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. Join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and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, install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ffffcc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,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are the view after installmen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What’s the difference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reason behind is the size of view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ffffcc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and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Computation of delta tab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76920" y="2346480"/>
            <a:ext cx="8405640" cy="392004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We can see that the size of view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after installment, increas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ore than that of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. So, if we count the number of rows we need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o read in order to compute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strategy 1 need 16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cost, while</a:t>
            </a:r>
            <a:br>
              <a:rPr sz="2000"/>
            </a:b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strategy 2 need 18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cos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problem here implied us to first update those view that have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smaller change is size first, the larger change one left at last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As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depends on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and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,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and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must update before 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. Such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ordering together with the ordering base on view size increment, W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need to do a topological sort for the operation (propagate &amp; install)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in order to optimize the time for update in a large data-cube latti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4572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Resul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optimal view is stored 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ditionally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red in relational table in data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posed Algorith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red in Cubetre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527544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527544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761760" y="4589640"/>
            <a:ext cx="2206080" cy="1755000"/>
            <a:chOff x="761760" y="4589640"/>
            <a:chExt cx="2206080" cy="1755000"/>
          </a:xfrm>
        </p:grpSpPr>
        <p:grpSp>
          <p:nvGrpSpPr>
            <p:cNvPr id="536" name=""/>
            <p:cNvGrpSpPr/>
            <p:nvPr/>
          </p:nvGrpSpPr>
          <p:grpSpPr>
            <a:xfrm>
              <a:off x="1600560" y="4589640"/>
              <a:ext cx="533160" cy="1295280"/>
              <a:chOff x="1600560" y="4589640"/>
              <a:chExt cx="533160" cy="129528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1600560" y="4589640"/>
                <a:ext cx="533160" cy="1295280"/>
                <a:chOff x="1600560" y="4589640"/>
                <a:chExt cx="533160" cy="129528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1600560" y="4589640"/>
                  <a:ext cx="533160" cy="1295280"/>
                  <a:chOff x="1600560" y="4589640"/>
                  <a:chExt cx="533160" cy="12952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1600560" y="4645080"/>
                    <a:ext cx="533160" cy="123984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1600560" y="4589640"/>
                    <a:ext cx="5331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15" h="149">
                        <a:moveTo>
                          <a:pt x="0" y="149"/>
                        </a:moveTo>
                        <a:lnTo>
                          <a:pt x="1315" y="149"/>
                        </a:lnTo>
                        <a:lnTo>
                          <a:pt x="1168" y="0"/>
                        </a:lnTo>
                        <a:lnTo>
                          <a:pt x="148" y="0"/>
                        </a:lnTo>
                        <a:lnTo>
                          <a:pt x="0" y="14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1600560" y="4645080"/>
                  <a:ext cx="533160" cy="1239480"/>
                  <a:chOff x="1600560" y="4645080"/>
                  <a:chExt cx="533160" cy="123948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1600560" y="5235840"/>
                    <a:ext cx="533160" cy="64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15" h="1680">
                        <a:moveTo>
                          <a:pt x="292" y="1680"/>
                        </a:moveTo>
                        <a:lnTo>
                          <a:pt x="1315" y="365"/>
                        </a:lnTo>
                        <a:lnTo>
                          <a:pt x="1315" y="0"/>
                        </a:lnTo>
                        <a:lnTo>
                          <a:pt x="0" y="1680"/>
                        </a:lnTo>
                        <a:lnTo>
                          <a:pt x="292" y="168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778040" y="5432760"/>
                    <a:ext cx="355680" cy="45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77" h="1169">
                        <a:moveTo>
                          <a:pt x="877" y="1169"/>
                        </a:moveTo>
                        <a:lnTo>
                          <a:pt x="0" y="1169"/>
                        </a:lnTo>
                        <a:lnTo>
                          <a:pt x="877" y="0"/>
                        </a:lnTo>
                        <a:lnTo>
                          <a:pt x="877" y="1169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1600560" y="4645080"/>
                    <a:ext cx="354960" cy="451800"/>
                  </a:xfrm>
                  <a:custGeom>
                    <a:avLst/>
                    <a:gdLst/>
                    <a:ahLst/>
                    <a:rect l="l" t="t" r="r" b="b"/>
                    <a:pathLst>
                      <a:path w="876" h="1169">
                        <a:moveTo>
                          <a:pt x="0" y="0"/>
                        </a:moveTo>
                        <a:lnTo>
                          <a:pt x="876" y="0"/>
                        </a:lnTo>
                        <a:lnTo>
                          <a:pt x="0" y="116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2002320" y="4655880"/>
                <a:ext cx="98640" cy="189720"/>
                <a:chOff x="2002320" y="4655880"/>
                <a:chExt cx="98640" cy="1897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002320" y="4655880"/>
                  <a:ext cx="98640" cy="189720"/>
                </a:xfrm>
                <a:prstGeom prst="rect">
                  <a:avLst/>
                </a:prstGeom>
                <a:solidFill>
                  <a:srgbClr val="3f3f3f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2007720" y="4667400"/>
                  <a:ext cx="83520" cy="164880"/>
                  <a:chOff x="2007720" y="4667400"/>
                  <a:chExt cx="83520" cy="164880"/>
                </a:xfrm>
              </p:grpSpPr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054520" y="4667400"/>
                    <a:ext cx="36720" cy="79920"/>
                    <a:chOff x="2054520" y="4667400"/>
                    <a:chExt cx="36720" cy="7992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2054520" y="4669560"/>
                      <a:ext cx="29880" cy="56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2085840" y="4667400"/>
                      <a:ext cx="5400" cy="799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007720" y="4752000"/>
                    <a:ext cx="64080" cy="48600"/>
                    <a:chOff x="2007720" y="4752000"/>
                    <a:chExt cx="64080" cy="48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2007720" y="4752000"/>
                      <a:ext cx="64080" cy="82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2007720" y="4763160"/>
                      <a:ext cx="64080" cy="82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2007720" y="4776480"/>
                      <a:ext cx="64080" cy="82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2009160" y="4790880"/>
                      <a:ext cx="42120" cy="9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2051280" y="4791240"/>
                    <a:ext cx="13680" cy="41040"/>
                    <a:chOff x="2051280" y="4791240"/>
                    <a:chExt cx="13680" cy="4104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2056680" y="4791240"/>
                      <a:ext cx="720" cy="3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2051280" y="4817160"/>
                      <a:ext cx="13680" cy="1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41">
                          <a:moveTo>
                            <a:pt x="0" y="0"/>
                          </a:moveTo>
                          <a:lnTo>
                            <a:pt x="34" y="0"/>
                          </a:lnTo>
                          <a:lnTo>
                            <a:pt x="16" y="4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59" name=""/>
              <p:cNvSpPr/>
              <p:nvPr/>
            </p:nvSpPr>
            <p:spPr>
              <a:xfrm>
                <a:off x="1660320" y="4856040"/>
                <a:ext cx="416160" cy="743760"/>
              </a:xfrm>
              <a:prstGeom prst="rect">
                <a:avLst/>
              </a:prstGeom>
              <a:solidFill>
                <a:srgbClr val="3f3f3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1840320" y="5388840"/>
                <a:ext cx="134640" cy="176040"/>
                <a:chOff x="1840320" y="5388840"/>
                <a:chExt cx="134640" cy="17604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1840320" y="5388840"/>
                  <a:ext cx="38520" cy="176040"/>
                  <a:chOff x="1840320" y="5388840"/>
                  <a:chExt cx="38520" cy="1760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1840320" y="5388840"/>
                    <a:ext cx="38520" cy="3852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840320" y="5434920"/>
                    <a:ext cx="38520" cy="3708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840320" y="5479200"/>
                    <a:ext cx="38520" cy="3852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840320" y="5526360"/>
                    <a:ext cx="38520" cy="3852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1887840" y="5388840"/>
                  <a:ext cx="38520" cy="176040"/>
                  <a:chOff x="1887840" y="5388840"/>
                  <a:chExt cx="38520" cy="176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1887840" y="5388840"/>
                    <a:ext cx="38520" cy="3852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887840" y="5434920"/>
                    <a:ext cx="38520" cy="3708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887840" y="5479200"/>
                    <a:ext cx="38520" cy="3852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887840" y="5526360"/>
                    <a:ext cx="38520" cy="3852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1934640" y="5388840"/>
                  <a:ext cx="40320" cy="176040"/>
                  <a:chOff x="1934640" y="5388840"/>
                  <a:chExt cx="40320" cy="17604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1934640" y="5388840"/>
                    <a:ext cx="40320" cy="3852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1934640" y="5434920"/>
                    <a:ext cx="40320" cy="3708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1934640" y="5479200"/>
                    <a:ext cx="40320" cy="3852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934640" y="5526360"/>
                    <a:ext cx="40320" cy="38520"/>
                  </a:xfrm>
                  <a:prstGeom prst="rect">
                    <a:avLst/>
                  </a:prstGeom>
                  <a:noFill/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6" name=""/>
              <p:cNvGrpSpPr/>
              <p:nvPr/>
            </p:nvGrpSpPr>
            <p:grpSpPr>
              <a:xfrm>
                <a:off x="1856520" y="4942440"/>
                <a:ext cx="198720" cy="246960"/>
                <a:chOff x="1856520" y="4942440"/>
                <a:chExt cx="198720" cy="2469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856520" y="4942440"/>
                  <a:ext cx="196560" cy="246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68400" y="4953240"/>
                  <a:ext cx="5256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68400" y="4993200"/>
                  <a:ext cx="306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870200" y="5032800"/>
                  <a:ext cx="4824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868400" y="5074200"/>
                  <a:ext cx="4032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867680" y="5114520"/>
                  <a:ext cx="525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867680" y="5153760"/>
                  <a:ext cx="5256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89000" y="4953240"/>
                  <a:ext cx="5004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001960" y="4993200"/>
                  <a:ext cx="3708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999440" y="5033520"/>
                  <a:ext cx="3960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999440" y="5074200"/>
                  <a:ext cx="3960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998000" y="5153760"/>
                  <a:ext cx="4104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857960" y="4983120"/>
                  <a:ext cx="1972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57960" y="5023440"/>
                  <a:ext cx="1972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857960" y="5063400"/>
                  <a:ext cx="197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857960" y="5104440"/>
                  <a:ext cx="197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857960" y="5144400"/>
                  <a:ext cx="197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761760" y="588492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Data Warehous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585600" y="5046840"/>
            <a:ext cx="2053800" cy="1262880"/>
            <a:chOff x="3585600" y="5046840"/>
            <a:chExt cx="2053800" cy="1262880"/>
          </a:xfrm>
        </p:grpSpPr>
        <p:sp>
          <p:nvSpPr>
            <p:cNvPr id="596" name=""/>
            <p:cNvSpPr/>
            <p:nvPr/>
          </p:nvSpPr>
          <p:spPr>
            <a:xfrm>
              <a:off x="4043160" y="5046840"/>
              <a:ext cx="1142640" cy="53316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SOR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85600" y="585000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iew Select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858000" y="4648320"/>
            <a:ext cx="1401480" cy="1737360"/>
            <a:chOff x="6858000" y="4648320"/>
            <a:chExt cx="1401480" cy="1737360"/>
          </a:xfrm>
        </p:grpSpPr>
        <p:grpSp>
          <p:nvGrpSpPr>
            <p:cNvPr id="599" name=""/>
            <p:cNvGrpSpPr/>
            <p:nvPr/>
          </p:nvGrpSpPr>
          <p:grpSpPr>
            <a:xfrm>
              <a:off x="6867360" y="4648320"/>
              <a:ext cx="1301760" cy="1235880"/>
              <a:chOff x="6867360" y="4648320"/>
              <a:chExt cx="1301760" cy="1235880"/>
            </a:xfrm>
          </p:grpSpPr>
          <p:pic>
            <p:nvPicPr>
              <p:cNvPr id="6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67360" y="4648320"/>
                <a:ext cx="539640" cy="5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95960" y="5333400"/>
                <a:ext cx="539640" cy="5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9120" y="4876560"/>
                <a:ext cx="540000" cy="550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3" name=""/>
            <p:cNvSpPr/>
            <p:nvPr/>
          </p:nvSpPr>
          <p:spPr>
            <a:xfrm>
              <a:off x="6858000" y="592596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ubetre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6934320" y="4724280"/>
            <a:ext cx="968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is a Cubetree 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4343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ew is a multidimensional data-s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btree is a n-dimensional R-tree that indexes n-dimension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84560" y="40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105520" y="2666880"/>
          <a:ext cx="344304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666880"/>
                    <a:ext cx="344304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a build a Cubetree ? (1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ider the Data Cube Lattice Below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533520" y="2743200"/>
            <a:ext cx="7924320" cy="3809520"/>
            <a:chOff x="533520" y="2743200"/>
            <a:chExt cx="7924320" cy="3809520"/>
          </a:xfrm>
        </p:grpSpPr>
        <p:sp>
          <p:nvSpPr>
            <p:cNvPr id="613" name=""/>
            <p:cNvSpPr/>
            <p:nvPr/>
          </p:nvSpPr>
          <p:spPr>
            <a:xfrm>
              <a:off x="4532040" y="3448440"/>
              <a:ext cx="0" cy="493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623600" y="3307320"/>
              <a:ext cx="1890360" cy="8463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59240" y="3236760"/>
              <a:ext cx="2108160" cy="917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87120" y="2743200"/>
              <a:ext cx="3634920" cy="7052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Times New Roman"/>
                </a:rPr>
                <a:t>partkey,suppkey,custke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96680" y="4224600"/>
              <a:ext cx="2835360" cy="1058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4532040" y="4224600"/>
              <a:ext cx="2835360" cy="1058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32040" y="5283000"/>
              <a:ext cx="0" cy="1058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623960" y="4154040"/>
              <a:ext cx="2908080" cy="11991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96680" y="5353200"/>
              <a:ext cx="2835360" cy="1058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96680" y="4224600"/>
              <a:ext cx="0" cy="1128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4532040" y="5353200"/>
              <a:ext cx="2835360" cy="1058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67400" y="4224600"/>
              <a:ext cx="0" cy="11991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04760" y="4154040"/>
              <a:ext cx="2835360" cy="11991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3520" y="3871800"/>
              <a:ext cx="2253600" cy="5644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Times New Roman"/>
                </a:rPr>
                <a:t>partkey,suppke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69480" y="5071320"/>
              <a:ext cx="1381320" cy="4935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Times New Roman"/>
                </a:rPr>
                <a:t>partke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41600" y="3871800"/>
              <a:ext cx="2253600" cy="5644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Times New Roman"/>
                </a:rPr>
                <a:t>partkey,custke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77920" y="5000760"/>
              <a:ext cx="1381320" cy="42300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Times New Roman"/>
                </a:rPr>
                <a:t>suppke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50640" y="6129720"/>
              <a:ext cx="1162800" cy="42300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Times New Roman"/>
                </a:rPr>
                <a:t>non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04240" y="3871800"/>
              <a:ext cx="2253600" cy="5644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Times New Roman"/>
                </a:rPr>
                <a:t>suppkey,custke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13280" y="5071320"/>
              <a:ext cx="1381320" cy="4935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Times New Roman"/>
                </a:rPr>
                <a:t>custke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a build a Cubetree ? (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have a selected set of view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684360" y="2674800"/>
          <a:ext cx="794844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74800"/>
                    <a:ext cx="79484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14600" y="2070000"/>
            <a:ext cx="792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Data warehous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Usually is a large database storing data of an enterpris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roughout the its whole lif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OLAP (Online Analytic Processing)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Query on the data to be used for decision maki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peeding up OLAP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Usually, the query consist of joining across many table,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with a lot of group by operation. The classic query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optimization technique is not applic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How to speed up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By materialize (pre-compute &amp; store) views over the raw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data that able to answer query directly, or using indexing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chnique to allow direct access to relevant da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a build a Cubetree ? (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d the max Arity of the view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|V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imes New Roman"/>
              </a:rPr>
              <a:t>{partkey,suppkey}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| = 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up Views into sets S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ccording to their a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imes New Roman"/>
              </a:rPr>
              <a:t>{partkey,suppkey}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, V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imes New Roman"/>
              </a:rPr>
              <a:t>{partkey,custkey}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--&gt; S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ck a view from each sets of 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and map it to a R-t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a build a Cubetree ? (4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get 2 Cubetrees as shown below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3352680"/>
            <a:ext cx="838440" cy="221004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V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95680" y="3352680"/>
            <a:ext cx="838440" cy="221004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426320" y="4114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-Tre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87280" y="2743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78160" y="571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27520" y="571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3581280"/>
            <a:ext cx="2438280" cy="6098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4648320"/>
            <a:ext cx="2438280" cy="6094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81120" y="3657600"/>
            <a:ext cx="9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{x,y}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81120" y="4724280"/>
            <a:ext cx="9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{x,y}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4000"/>
          </a:bodyPr>
          <a:p>
            <a:pPr marL="150840" indent="-150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betree is used as an altnerative storage and indexing orgamization for OLAP view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s an efficient algorithm for mapping an arbitrary set of OLAP views to a collection of Cubtre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iew Maintena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ew Con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ffcc66"/>
                </a:solidFill>
                <a:latin typeface="Times New Roman"/>
              </a:rPr>
              <a:t>Three Layers of View Consistency</a:t>
            </a:r>
            <a:endParaRPr b="0" i="1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 Con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ew Con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ple View Consistency (MV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886200" y="2819520"/>
            <a:ext cx="4991040" cy="3765600"/>
            <a:chOff x="3886200" y="2819520"/>
            <a:chExt cx="4991040" cy="3765600"/>
          </a:xfrm>
        </p:grpSpPr>
        <p:sp>
          <p:nvSpPr>
            <p:cNvPr id="658" name=""/>
            <p:cNvSpPr/>
            <p:nvPr/>
          </p:nvSpPr>
          <p:spPr>
            <a:xfrm>
              <a:off x="3979800" y="2819520"/>
              <a:ext cx="4897440" cy="376560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45000" y="3382920"/>
              <a:ext cx="6588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View-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03800" y="3382920"/>
              <a:ext cx="6606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View-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8000" y="3382920"/>
              <a:ext cx="6588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ffffff"/>
                  </a:solidFill>
                  <a:latin typeface="Arial"/>
                </a:rPr>
                <a:t>………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99400" y="3382920"/>
              <a:ext cx="6602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View-m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840800" y="3382920"/>
              <a:ext cx="6602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MVC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34320" y="4495680"/>
              <a:ext cx="1506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View Consistency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34320" y="5791320"/>
              <a:ext cx="18288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Source Consistency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91520" y="5334120"/>
              <a:ext cx="10141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sedata--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16800" y="5361120"/>
              <a:ext cx="8478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zh-TW" sz="12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99200" y="5361120"/>
              <a:ext cx="1035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sedata--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62400" y="5361120"/>
              <a:ext cx="8478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sedata-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260960" y="3195720"/>
              <a:ext cx="3390840" cy="5652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75200" y="5173560"/>
              <a:ext cx="4613040" cy="563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86200" y="3195720"/>
              <a:ext cx="3484440" cy="2824200"/>
            </a:xfrm>
            <a:custGeom>
              <a:avLst/>
              <a:gdLst/>
              <a:ahLst/>
              <a:rect l="l" t="t" r="r" b="b"/>
              <a:pathLst>
                <a:path w="6930" h="7140">
                  <a:moveTo>
                    <a:pt x="2940" y="30"/>
                  </a:moveTo>
                  <a:cubicBezTo>
                    <a:pt x="1950" y="0"/>
                    <a:pt x="0" y="4950"/>
                    <a:pt x="600" y="5970"/>
                  </a:cubicBezTo>
                  <a:cubicBezTo>
                    <a:pt x="1200" y="6990"/>
                    <a:pt x="6150" y="7140"/>
                    <a:pt x="6540" y="6150"/>
                  </a:cubicBezTo>
                  <a:cubicBezTo>
                    <a:pt x="6930" y="5160"/>
                    <a:pt x="3930" y="60"/>
                    <a:pt x="2940" y="3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62400" y="6208560"/>
              <a:ext cx="44258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Three Layers of Consistenc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 of Inconsistency for Multiple View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R      S &amp;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S      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nges of base relations and vie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2438280" y="2209680"/>
            <a:ext cx="228600" cy="380880"/>
          </a:xfrm>
          <a:prstGeom prst="flowChartCollat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5400000">
            <a:off x="4876560" y="2209680"/>
            <a:ext cx="228600" cy="380880"/>
          </a:xfrm>
          <a:prstGeom prst="flowChartCollat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143000" y="3276720"/>
          <a:ext cx="6552720" cy="2082240"/>
        </p:xfrm>
        <a:graphic>
          <a:graphicData uri="http://schemas.openxmlformats.org/drawingml/2006/table">
            <a:tbl>
              <a:tblPr/>
              <a:tblGrid>
                <a:gridCol w="607320"/>
                <a:gridCol w="216000"/>
                <a:gridCol w="468000"/>
                <a:gridCol w="365760"/>
                <a:gridCol w="216000"/>
                <a:gridCol w="393120"/>
                <a:gridCol w="365760"/>
                <a:gridCol w="216000"/>
                <a:gridCol w="391680"/>
                <a:gridCol w="365760"/>
                <a:gridCol w="266400"/>
                <a:gridCol w="474840"/>
                <a:gridCol w="443520"/>
                <a:gridCol w="266400"/>
                <a:gridCol w="252360"/>
                <a:gridCol w="457920"/>
                <a:gridCol w="474840"/>
                <a:gridCol w="311040"/>
              </a:tblGrid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: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16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16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im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609480" y="4648320"/>
            <a:ext cx="754380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ey Problems in Keeping MVC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tions must be applied as an “atomic unit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lta computation” often takes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lta computation” may be “intertwined” with subsequent upd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228600" y="1600200"/>
            <a:ext cx="4280040" cy="5103720"/>
            <a:chOff x="228600" y="1600200"/>
            <a:chExt cx="4280040" cy="5103720"/>
          </a:xfrm>
        </p:grpSpPr>
        <p:sp>
          <p:nvSpPr>
            <p:cNvPr id="683" name=""/>
            <p:cNvSpPr/>
            <p:nvPr/>
          </p:nvSpPr>
          <p:spPr>
            <a:xfrm>
              <a:off x="228600" y="1600200"/>
              <a:ext cx="4280040" cy="5103720"/>
            </a:xfrm>
            <a:prstGeom prst="rect">
              <a:avLst/>
            </a:prstGeom>
            <a:solidFill>
              <a:srgbClr val="00008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3120" y="6404040"/>
              <a:ext cx="4054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ata Warehouse architecture to enforce MVC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ge Process Enforcing MVC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integ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ew manag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merge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28480" y="3851280"/>
            <a:ext cx="3529080" cy="869400"/>
            <a:chOff x="528480" y="3851280"/>
            <a:chExt cx="3529080" cy="869400"/>
          </a:xfrm>
        </p:grpSpPr>
        <p:sp>
          <p:nvSpPr>
            <p:cNvPr id="688" name=""/>
            <p:cNvSpPr/>
            <p:nvPr/>
          </p:nvSpPr>
          <p:spPr>
            <a:xfrm>
              <a:off x="979560" y="4527720"/>
              <a:ext cx="5252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Updat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82920" y="4527720"/>
              <a:ext cx="5256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Updat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8480" y="3851280"/>
              <a:ext cx="976320" cy="3254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iew Mgr 1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81240" y="4226040"/>
              <a:ext cx="225360" cy="376200"/>
            </a:xfrm>
            <a:prstGeom prst="upArrow">
              <a:avLst>
                <a:gd name="adj1" fmla="val 50000"/>
                <a:gd name="adj2" fmla="val 41733"/>
              </a:avLst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rot="19422000">
              <a:off x="1302480" y="4226040"/>
              <a:ext cx="203040" cy="480960"/>
            </a:xfrm>
            <a:prstGeom prst="upArrow">
              <a:avLst>
                <a:gd name="adj1" fmla="val 50000"/>
                <a:gd name="adj2" fmla="val 59220"/>
              </a:avLst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2178000">
              <a:off x="3228480" y="4226040"/>
              <a:ext cx="203400" cy="480960"/>
            </a:xfrm>
            <a:prstGeom prst="upArrow">
              <a:avLst>
                <a:gd name="adj1" fmla="val 50000"/>
                <a:gd name="adj2" fmla="val 59115"/>
              </a:avLst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05040" y="3851280"/>
              <a:ext cx="976320" cy="3254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iew Mgr 2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81240" y="3851280"/>
              <a:ext cx="976320" cy="3254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iew Mgr 3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828720" y="3025800"/>
            <a:ext cx="3079800" cy="794880"/>
            <a:chOff x="828720" y="3025800"/>
            <a:chExt cx="3079800" cy="794880"/>
          </a:xfrm>
        </p:grpSpPr>
        <p:sp>
          <p:nvSpPr>
            <p:cNvPr id="697" name=""/>
            <p:cNvSpPr/>
            <p:nvPr/>
          </p:nvSpPr>
          <p:spPr>
            <a:xfrm>
              <a:off x="1579680" y="3025800"/>
              <a:ext cx="1427040" cy="2746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erge Proces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2178000">
              <a:off x="1201320" y="3249720"/>
              <a:ext cx="203400" cy="480960"/>
            </a:xfrm>
            <a:prstGeom prst="upArrow">
              <a:avLst>
                <a:gd name="adj1" fmla="val 50000"/>
                <a:gd name="adj2" fmla="val 59115"/>
              </a:avLst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81240" y="3325680"/>
              <a:ext cx="225360" cy="374760"/>
            </a:xfrm>
            <a:prstGeom prst="upArrow">
              <a:avLst>
                <a:gd name="adj1" fmla="val 50000"/>
                <a:gd name="adj2" fmla="val 41573"/>
              </a:avLst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rot="19422000">
              <a:off x="3157200" y="3325680"/>
              <a:ext cx="203040" cy="481320"/>
            </a:xfrm>
            <a:prstGeom prst="upArrow">
              <a:avLst>
                <a:gd name="adj1" fmla="val 50000"/>
                <a:gd name="adj2" fmla="val 59264"/>
              </a:avLst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382920" y="3400560"/>
              <a:ext cx="525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ion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8720" y="3400560"/>
              <a:ext cx="525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ion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06600" y="3475080"/>
              <a:ext cx="525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ion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28480" y="5653080"/>
            <a:ext cx="3605400" cy="676440"/>
            <a:chOff x="528480" y="5653080"/>
            <a:chExt cx="3605400" cy="676440"/>
          </a:xfrm>
        </p:grpSpPr>
        <p:sp>
          <p:nvSpPr>
            <p:cNvPr id="705" name=""/>
            <p:cNvSpPr/>
            <p:nvPr/>
          </p:nvSpPr>
          <p:spPr>
            <a:xfrm>
              <a:off x="528480" y="5653080"/>
              <a:ext cx="1127160" cy="37476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Data </a:t>
              </a: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06720" y="5727600"/>
              <a:ext cx="1127160" cy="37620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Data source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30520" y="5952960"/>
              <a:ext cx="1125360" cy="37656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Data source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092240" y="1898640"/>
            <a:ext cx="2401920" cy="1050840"/>
            <a:chOff x="1092240" y="1898640"/>
            <a:chExt cx="2401920" cy="1050840"/>
          </a:xfrm>
        </p:grpSpPr>
        <p:sp>
          <p:nvSpPr>
            <p:cNvPr id="709" name=""/>
            <p:cNvSpPr/>
            <p:nvPr/>
          </p:nvSpPr>
          <p:spPr>
            <a:xfrm>
              <a:off x="1092240" y="1898640"/>
              <a:ext cx="2401920" cy="674640"/>
            </a:xfrm>
            <a:prstGeom prst="rect">
              <a:avLst/>
            </a:prstGeom>
            <a:solidFill>
              <a:srgbClr val="0f81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rehouse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iew 1, View 2, View 3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81240" y="2575080"/>
              <a:ext cx="225360" cy="374400"/>
            </a:xfrm>
            <a:prstGeom prst="upArrow">
              <a:avLst>
                <a:gd name="adj1" fmla="val 50000"/>
                <a:gd name="adj2" fmla="val 41534"/>
              </a:avLst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054080" y="4827600"/>
            <a:ext cx="2629080" cy="976320"/>
            <a:chOff x="1054080" y="4827600"/>
            <a:chExt cx="2629080" cy="976320"/>
          </a:xfrm>
        </p:grpSpPr>
        <p:sp>
          <p:nvSpPr>
            <p:cNvPr id="712" name=""/>
            <p:cNvSpPr/>
            <p:nvPr/>
          </p:nvSpPr>
          <p:spPr>
            <a:xfrm>
              <a:off x="1579680" y="4827600"/>
              <a:ext cx="1427040" cy="299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grato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1054080" y="5114160"/>
              <a:ext cx="2629080" cy="689760"/>
              <a:chOff x="1054080" y="5114160"/>
              <a:chExt cx="2629080" cy="689760"/>
            </a:xfrm>
          </p:grpSpPr>
          <p:sp>
            <p:nvSpPr>
              <p:cNvPr id="714" name=""/>
              <p:cNvSpPr/>
              <p:nvPr/>
            </p:nvSpPr>
            <p:spPr>
              <a:xfrm rot="2178000">
                <a:off x="1430280" y="5127480"/>
                <a:ext cx="201600" cy="481320"/>
              </a:xfrm>
              <a:prstGeom prst="upArrow">
                <a:avLst>
                  <a:gd name="adj1" fmla="val 50000"/>
                  <a:gd name="adj2" fmla="val 59688"/>
                </a:avLst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9422000">
                <a:off x="3006360" y="5127480"/>
                <a:ext cx="203040" cy="481320"/>
              </a:xfrm>
              <a:prstGeom prst="upArrow">
                <a:avLst>
                  <a:gd name="adj1" fmla="val 50000"/>
                  <a:gd name="adj2" fmla="val 59264"/>
                </a:avLst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181240" y="5202360"/>
                <a:ext cx="225360" cy="601560"/>
              </a:xfrm>
              <a:prstGeom prst="upArrow">
                <a:avLst>
                  <a:gd name="adj1" fmla="val 50000"/>
                  <a:gd name="adj2" fmla="val 66733"/>
                </a:avLst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157560" y="5202360"/>
                <a:ext cx="525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Updates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406600" y="5502240"/>
                <a:ext cx="525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Updates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054080" y="5276880"/>
                <a:ext cx="525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Updates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mple Painting Algorith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R      S,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S       T       Q &amp;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source updates: U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on S &amp; U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on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ew Update Table (VU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White – Waiting for the corresponding Action List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Red – The AL is just received, still waiting the other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Grey – The AL has just been applie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Black – The entry need not be examine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5400000">
            <a:off x="5028840" y="2133360"/>
            <a:ext cx="228600" cy="381240"/>
          </a:xfrm>
          <a:prstGeom prst="flowChartCollat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5400000">
            <a:off x="4190760" y="2133360"/>
            <a:ext cx="228600" cy="380880"/>
          </a:xfrm>
          <a:prstGeom prst="flowChartCollat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2285640" y="2133360"/>
            <a:ext cx="228600" cy="381240"/>
          </a:xfrm>
          <a:prstGeom prst="flowChartCollat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1981080" y="3581280"/>
          <a:ext cx="5410080" cy="1276560"/>
        </p:xfrm>
        <a:graphic>
          <a:graphicData uri="http://schemas.openxmlformats.org/drawingml/2006/table">
            <a:tbl>
              <a:tblPr/>
              <a:tblGrid>
                <a:gridCol w="990720"/>
                <a:gridCol w="1447560"/>
                <a:gridCol w="1597320"/>
                <a:gridCol w="13744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2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R,S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2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S,T,Q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2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0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22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S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hite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hite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ack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22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Q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ack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hite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hite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6" name=""/>
          <p:cNvSpPr/>
          <p:nvPr/>
        </p:nvSpPr>
        <p:spPr>
          <a:xfrm>
            <a:off x="4572000" y="4038480"/>
            <a:ext cx="1295280" cy="33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RED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nks for Your Attention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50440" y="1981080"/>
            <a:ext cx="6509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Materialize all views (we have not enough space).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This is a problem trading space for time.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36360" y="342900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he Ques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0120" y="4114800"/>
            <a:ext cx="761436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How to select &amp; store views to materialize under a spac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constraint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How to reduce the time for updating data when data append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o the warehouse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9120" y="2095560"/>
            <a:ext cx="83523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Usually, certain query are of high hit-rate but others are not,</a:t>
            </a:r>
            <a:br>
              <a:rPr sz="2100"/>
            </a:b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so not all views are useful.</a:t>
            </a:r>
            <a:br>
              <a:rPr sz="2100"/>
            </a:b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We can reduce the problem size by considering only the views</a:t>
            </a:r>
            <a:br>
              <a:rPr sz="2100"/>
            </a:b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that are able to answer the given set of queries.</a:t>
            </a:r>
            <a:br>
              <a:rPr sz="2100"/>
            </a:b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Example: in a store location dimension, </a:t>
            </a:r>
            <a:br>
              <a:rPr sz="2100"/>
            </a:b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we have {zip_code, country, continent} as attribute,</a:t>
            </a:r>
            <a:br>
              <a:rPr sz="2100"/>
            </a:b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there exist a dependency that</a:t>
            </a:r>
            <a:br>
              <a:rPr sz="2100"/>
            </a:b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same zip_code-&gt;same country, same country-&gt;same continent.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So views that group by zip_code can use to answer query request</a:t>
            </a:r>
            <a:br>
              <a:rPr sz="2100"/>
            </a:br>
            <a:r>
              <a:rPr b="0" lang="en-US" sz="2100" spc="-1" strike="noStrike">
                <a:solidFill>
                  <a:srgbClr val="ffffcc"/>
                </a:solidFill>
                <a:latin typeface="Verdana"/>
              </a:rPr>
              <a:t>to group by country.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7621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hoosing the relevant sets of vie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50440" y="1935000"/>
            <a:ext cx="5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psd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248520"/>
            <a:ext cx="306360" cy="30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942160"/>
            <a:ext cx="306360" cy="30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09000" y="1979640"/>
            <a:ext cx="7671960" cy="4650480"/>
            <a:chOff x="909000" y="1979640"/>
            <a:chExt cx="7671960" cy="4650480"/>
          </a:xfrm>
        </p:grpSpPr>
        <p:sp>
          <p:nvSpPr>
            <p:cNvPr id="106" name=""/>
            <p:cNvSpPr/>
            <p:nvPr/>
          </p:nvSpPr>
          <p:spPr>
            <a:xfrm>
              <a:off x="4570560" y="1979640"/>
              <a:ext cx="306360" cy="306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84760" y="2665440"/>
              <a:ext cx="306360" cy="306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2666880"/>
              <a:ext cx="306360" cy="306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57800" y="3809880"/>
              <a:ext cx="306360" cy="30636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5280" y="3809880"/>
              <a:ext cx="306360" cy="306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00800" y="2666880"/>
              <a:ext cx="306360" cy="30636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3809880"/>
              <a:ext cx="306360" cy="30636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86200" y="4876920"/>
              <a:ext cx="306360" cy="30636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4876920"/>
              <a:ext cx="306360" cy="30636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43800" y="3809880"/>
              <a:ext cx="306360" cy="30636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809880"/>
              <a:ext cx="306360" cy="30636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86200" y="3809880"/>
              <a:ext cx="306360" cy="30636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480" y="2666880"/>
              <a:ext cx="306360" cy="306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0800" y="4952880"/>
              <a:ext cx="306360" cy="30636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7800" y="4952880"/>
              <a:ext cx="306360" cy="30636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743200" y="2209680"/>
              <a:ext cx="182880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14800" y="2286000"/>
              <a:ext cx="533520" cy="380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2286000"/>
              <a:ext cx="457200" cy="380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2133720"/>
              <a:ext cx="1523880" cy="609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23880" y="2895480"/>
              <a:ext cx="99072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2971800"/>
              <a:ext cx="0" cy="838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895480"/>
              <a:ext cx="243828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38480" y="2971800"/>
              <a:ext cx="0" cy="838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523880" y="2895480"/>
              <a:ext cx="236232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91120" y="2895480"/>
              <a:ext cx="220968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742840" y="2895480"/>
              <a:ext cx="243828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114440" y="2971800"/>
              <a:ext cx="1143000" cy="838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86400" y="2895480"/>
              <a:ext cx="205740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53080" y="2971800"/>
              <a:ext cx="0" cy="838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486400" y="2895480"/>
              <a:ext cx="91440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05720" y="2895480"/>
              <a:ext cx="91440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4114800"/>
              <a:ext cx="1067040" cy="762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6880" y="4114800"/>
              <a:ext cx="0" cy="762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742840" y="4038480"/>
              <a:ext cx="1143000" cy="838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4038480"/>
              <a:ext cx="228600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19520" y="4038480"/>
              <a:ext cx="251460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0080" y="4114800"/>
              <a:ext cx="0" cy="838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114440" y="4038480"/>
              <a:ext cx="1143000" cy="838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91120" y="4114800"/>
              <a:ext cx="220968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91120" y="4038480"/>
              <a:ext cx="220968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486040" y="4038480"/>
              <a:ext cx="205740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629040" y="4114800"/>
              <a:ext cx="1066680" cy="838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3080" y="4114800"/>
              <a:ext cx="0" cy="838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5791320"/>
              <a:ext cx="306360" cy="30636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5105520"/>
              <a:ext cx="1752480" cy="761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5181480"/>
              <a:ext cx="609480" cy="609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800600" y="5257800"/>
              <a:ext cx="533520" cy="533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876560" y="5257800"/>
              <a:ext cx="1600200" cy="609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8160" y="2666880"/>
              <a:ext cx="44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psd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54760" y="26668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ps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93240" y="2666880"/>
              <a:ext cx="4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pd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12200" y="26668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sd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5240" y="3840120"/>
              <a:ext cx="34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p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1680" y="3809880"/>
              <a:ext cx="36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pd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4360" y="3809880"/>
              <a:ext cx="33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p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7760" y="3809880"/>
              <a:ext cx="34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sd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87720" y="380988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s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54840" y="3809880"/>
              <a:ext cx="33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d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87720" y="4983120"/>
              <a:ext cx="24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4880" y="4983120"/>
              <a:ext cx="27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d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9040" y="495288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21680" y="4876920"/>
              <a:ext cx="27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p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85920" y="582120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non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09000" y="6248520"/>
              <a:ext cx="179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Verdana"/>
                </a:rPr>
                <a:t>- </a:t>
              </a: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usually made queri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52920" y="5973840"/>
              <a:ext cx="29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Verdana"/>
                </a:rPr>
                <a:t>- </a:t>
              </a:r>
              <a:r>
                <a:rPr b="0" lang="en-US" sz="1200" spc="-1" strike="noStrike">
                  <a:solidFill>
                    <a:srgbClr val="ffffcc"/>
                  </a:solidFill>
                  <a:latin typeface="Verdana"/>
                </a:rPr>
                <a:t>views that can used to answer queri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36440" y="5562720"/>
              <a:ext cx="1244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Verdana"/>
                </a:rPr>
                <a:t>P</a:t>
              </a: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roduc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Verdana"/>
                </a:rPr>
                <a:t>S</a:t>
              </a: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tor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Verdana"/>
                </a:rPr>
                <a:t>D</a:t>
              </a: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at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p</a:t>
              </a:r>
              <a:r>
                <a:rPr b="1" lang="en-US" sz="1600" spc="-1" strike="noStrike">
                  <a:solidFill>
                    <a:srgbClr val="ffffcc"/>
                  </a:solidFill>
                  <a:latin typeface="Verdana"/>
                </a:rPr>
                <a:t>R</a:t>
              </a: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omot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ata Cube Latt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15680" y="2066760"/>
            <a:ext cx="786636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Given a set of queries 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L=Q, lastViews=L, newViews=empty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while lastViews not emtp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for each view v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Verdana"/>
              </a:rPr>
              <a:t>i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 in lastViews 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for each view v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Verdana"/>
              </a:rPr>
              <a:t>j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 in L, j&lt;&gt;i 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find all views that can use to answer query (view)</a:t>
            </a:r>
            <a:br>
              <a:rPr sz="1800"/>
            </a:b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Verdana"/>
              </a:rPr>
              <a:t>i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 as well as v</a:t>
            </a:r>
            <a:r>
              <a:rPr b="0" i="1" lang="en-US" sz="1800" spc="-1" strike="noStrike" baseline="-25000">
                <a:solidFill>
                  <a:srgbClr val="ffffcc"/>
                </a:solidFill>
                <a:latin typeface="Verdana"/>
              </a:rPr>
              <a:t>j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 (i.e. the attribute on the left sid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of a dependency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newViews=newViews U the newly found vie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L=L U newViews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lastView=newViews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newViews=emtpy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Verdana"/>
              </a:rPr>
              <a:t>return L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using this algorithm, input Q (circles in red), we will get back L (circ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both in red and yellow)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lgorith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7040" y="1987560"/>
            <a:ext cx="803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In the previous slide, you know that some attribute in a view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depends on other attribute (country-&gt;continent)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re is little need to materialize the view group by continent to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peed up that query as view group by country can already do this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(provided that no. of countries in a continent is small e.g. N.A.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4343400"/>
            <a:ext cx="4266720" cy="1562040"/>
            <a:chOff x="762120" y="4343400"/>
            <a:chExt cx="4266720" cy="1562040"/>
          </a:xfrm>
        </p:grpSpPr>
        <p:grpSp>
          <p:nvGrpSpPr>
            <p:cNvPr id="177" name=""/>
            <p:cNvGrpSpPr/>
            <p:nvPr/>
          </p:nvGrpSpPr>
          <p:grpSpPr>
            <a:xfrm>
              <a:off x="767880" y="4345200"/>
              <a:ext cx="4254480" cy="1558440"/>
              <a:chOff x="767880" y="4345200"/>
              <a:chExt cx="4254480" cy="155844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767880" y="4345200"/>
                <a:ext cx="1558800" cy="259560"/>
                <a:chOff x="767880" y="4345200"/>
                <a:chExt cx="1558800" cy="2595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852120" y="434520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Country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67880" y="434520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327040" y="4345200"/>
                <a:ext cx="1558800" cy="259560"/>
                <a:chOff x="2327040" y="4345200"/>
                <a:chExt cx="1558800" cy="2595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411280" y="434520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Continent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327040" y="434520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886560" y="4345200"/>
                <a:ext cx="1135800" cy="259560"/>
                <a:chOff x="3886560" y="4345200"/>
                <a:chExt cx="1135800" cy="2595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970800" y="4345200"/>
                  <a:ext cx="966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Sales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886560" y="4345200"/>
                  <a:ext cx="1135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767880" y="4604760"/>
                <a:ext cx="1558800" cy="259560"/>
                <a:chOff x="767880" y="4604760"/>
                <a:chExt cx="1558800" cy="2595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852120" y="460476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US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67880" y="460476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327040" y="4604760"/>
                <a:ext cx="1558800" cy="259560"/>
                <a:chOff x="2327040" y="4604760"/>
                <a:chExt cx="1558800" cy="2595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411280" y="460476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North Americ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327040" y="460476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886560" y="4604760"/>
                <a:ext cx="1135800" cy="259560"/>
                <a:chOff x="3886560" y="4604760"/>
                <a:chExt cx="1135800" cy="2595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970800" y="4604760"/>
                  <a:ext cx="966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5000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886560" y="4604760"/>
                  <a:ext cx="1135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67880" y="4864680"/>
                <a:ext cx="1558800" cy="259560"/>
                <a:chOff x="767880" y="4864680"/>
                <a:chExt cx="1558800" cy="2595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852120" y="486468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Canad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67880" y="486468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327040" y="4864680"/>
                <a:ext cx="1558800" cy="259560"/>
                <a:chOff x="2327040" y="4864680"/>
                <a:chExt cx="1558800" cy="259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411280" y="486468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North Americ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327040" y="486468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886560" y="4864680"/>
                <a:ext cx="1135800" cy="259560"/>
                <a:chOff x="3886560" y="4864680"/>
                <a:chExt cx="1135800" cy="2595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970800" y="4864680"/>
                  <a:ext cx="966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420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886560" y="4864680"/>
                  <a:ext cx="1135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767880" y="5124240"/>
                <a:ext cx="1558800" cy="259560"/>
                <a:chOff x="767880" y="5124240"/>
                <a:chExt cx="1558800" cy="259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852120" y="512424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Mexico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67880" y="512424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327040" y="5124240"/>
                <a:ext cx="1558800" cy="259560"/>
                <a:chOff x="2327040" y="5124240"/>
                <a:chExt cx="1558800" cy="2595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411280" y="512424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North Americ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327040" y="512424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86560" y="5124240"/>
                <a:ext cx="1135800" cy="259560"/>
                <a:chOff x="3886560" y="5124240"/>
                <a:chExt cx="1135800" cy="2595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970800" y="5124240"/>
                  <a:ext cx="966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50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886560" y="5124240"/>
                  <a:ext cx="1135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67880" y="5384160"/>
                <a:ext cx="1558800" cy="259560"/>
                <a:chOff x="767880" y="5384160"/>
                <a:chExt cx="1558800" cy="2595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852120" y="538416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Australi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67880" y="538416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2327040" y="5384160"/>
                <a:ext cx="1558800" cy="259560"/>
                <a:chOff x="2327040" y="5384160"/>
                <a:chExt cx="1558800" cy="2595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2411280" y="538416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Australasi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327040" y="538416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886560" y="5384160"/>
                <a:ext cx="1135800" cy="259560"/>
                <a:chOff x="3886560" y="5384160"/>
                <a:chExt cx="1135800" cy="2595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970800" y="5384160"/>
                  <a:ext cx="966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000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886560" y="5384160"/>
                  <a:ext cx="1135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67880" y="5644080"/>
                <a:ext cx="1558800" cy="259560"/>
                <a:chOff x="767880" y="5644080"/>
                <a:chExt cx="1558800" cy="259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852120" y="564408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New Zealand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67880" y="564408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2327040" y="5644080"/>
                <a:ext cx="1558800" cy="259560"/>
                <a:chOff x="2327040" y="5644080"/>
                <a:chExt cx="1558800" cy="2595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2411280" y="5644080"/>
                  <a:ext cx="1390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Australasi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327040" y="5644080"/>
                  <a:ext cx="1558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886560" y="5644080"/>
                <a:ext cx="1135800" cy="259560"/>
                <a:chOff x="3886560" y="5644080"/>
                <a:chExt cx="1135800" cy="2595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70800" y="5644080"/>
                  <a:ext cx="966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20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886560" y="5644080"/>
                  <a:ext cx="113580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2" name=""/>
            <p:cNvSpPr/>
            <p:nvPr/>
          </p:nvSpPr>
          <p:spPr>
            <a:xfrm>
              <a:off x="762120" y="4343400"/>
              <a:ext cx="4266720" cy="1562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486400" y="4343400"/>
            <a:ext cx="2361960" cy="762120"/>
            <a:chOff x="5486400" y="4343400"/>
            <a:chExt cx="2361960" cy="762120"/>
          </a:xfrm>
        </p:grpSpPr>
        <p:grpSp>
          <p:nvGrpSpPr>
            <p:cNvPr id="234" name=""/>
            <p:cNvGrpSpPr/>
            <p:nvPr/>
          </p:nvGrpSpPr>
          <p:grpSpPr>
            <a:xfrm>
              <a:off x="5491080" y="4345200"/>
              <a:ext cx="2351880" cy="758160"/>
              <a:chOff x="5491080" y="4345200"/>
              <a:chExt cx="2351880" cy="7581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5491080" y="4345200"/>
                <a:ext cx="1352160" cy="252720"/>
                <a:chOff x="5491080" y="4345200"/>
                <a:chExt cx="1352160" cy="252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561280" y="4345200"/>
                  <a:ext cx="121176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Continent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491080" y="4345200"/>
                  <a:ext cx="135216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843600" y="4345200"/>
                <a:ext cx="999360" cy="252720"/>
                <a:chOff x="6843600" y="4345200"/>
                <a:chExt cx="999360" cy="252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913800" y="4345200"/>
                  <a:ext cx="8586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Sales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843600" y="4345200"/>
                  <a:ext cx="99936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491080" y="4597920"/>
                <a:ext cx="1352160" cy="252720"/>
                <a:chOff x="5491080" y="4597920"/>
                <a:chExt cx="1352160" cy="252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561280" y="4597920"/>
                  <a:ext cx="121176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North Americ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491080" y="4597920"/>
                  <a:ext cx="135216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843600" y="4597920"/>
                <a:ext cx="999360" cy="252720"/>
                <a:chOff x="6843600" y="4597920"/>
                <a:chExt cx="999360" cy="2527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913800" y="4597920"/>
                  <a:ext cx="8586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5570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843600" y="4597920"/>
                  <a:ext cx="99936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5491080" y="4850640"/>
                <a:ext cx="1352160" cy="252720"/>
                <a:chOff x="5491080" y="4850640"/>
                <a:chExt cx="1352160" cy="2527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561280" y="4850640"/>
                  <a:ext cx="121176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Australasia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491080" y="4850640"/>
                  <a:ext cx="135216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6843600" y="4850640"/>
                <a:ext cx="999360" cy="252720"/>
                <a:chOff x="6843600" y="4850640"/>
                <a:chExt cx="999360" cy="252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913800" y="4850640"/>
                  <a:ext cx="8586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1020000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843600" y="4850640"/>
                  <a:ext cx="99936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5486400" y="4343400"/>
              <a:ext cx="2361960" cy="762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6212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rther reducing the set of view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aken into conside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76080" y="1981080"/>
            <a:ext cx="6866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Algorithm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Repea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Stop=true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for each dependency rule (L-&gt;R) in the cube lattic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if a view having group-by attribute - 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and the size of this view is larger than a certain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fraction of a view having group-by attribute – L,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DO NOT TAKE THAT VIEW INTO CONSIDER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Stop=false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Until Stop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50292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insight of this heuristic is to ignore views that its contribution to speeding up query can be done by other views with a little bit more time, so the space and update cost is reduced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rther reducing the set of view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aken into conside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080" y="1968480"/>
            <a:ext cx="8280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model described in lecture is a simplified cas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ffffcc"/>
                </a:solidFill>
                <a:latin typeface="Verdana"/>
                <a:ea typeface="新細明體"/>
              </a:rPr>
              <a:t>Just limit the number of views to materialize, but not the total size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ffffcc"/>
                </a:solidFill>
                <a:latin typeface="Verdana"/>
                <a:ea typeface="新細明體"/>
              </a:rPr>
              <a:t>Maintenance cost is not considered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ffffcc"/>
                </a:solidFill>
                <a:latin typeface="Verdana"/>
                <a:ea typeface="新細明體"/>
              </a:rPr>
              <a:t>Assumption of queries occur in equal probability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A more realistic cost model is like this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0080" y="5013360"/>
            <a:ext cx="7834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Qi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- frequency of query i to app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Q(Q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,M) - cost to answer query i given a materialized sub-cube 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g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Vi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- frequency of update to view 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U(V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,M)  - cost to update view i in a materialized sub-cub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(G,M)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 - cost to answer set of query G, with the sub-cube 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133720" y="3911760"/>
                <a:ext cx="510516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Qi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more realistic/refined cost model (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0:23:38Z</dcterms:created>
  <dc:creator>wfyip8</dc:creator>
  <dc:description/>
  <dc:language>en-US</dc:language>
  <cp:lastModifiedBy>cwin98</cp:lastModifiedBy>
  <dcterms:modified xsi:type="dcterms:W3CDTF">2001-04-19T08:16:27Z</dcterms:modified>
  <cp:revision>17</cp:revision>
  <dc:subject/>
  <dc:title>CSC 5120  Advanced Topics in Database System</dc:title>
</cp:coreProperties>
</file>